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690C-C1FD-406E-A5ED-482B6C319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C058-48B2-4001-8956-92390F8F1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666D-1E1F-436C-AC79-ABDBAC1F45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lear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 and interactive program provide engaging graphics and a wide variety of activi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84DC-F330-4DF4-B236-CB7E9FC794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pplications try to engage and encourage students to learn critical skills in a fun and creativ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6AF1-0175-41A0-916E-5BE1A95A2A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pplications provide skills practice and problem-solving activ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F2FB-83BF-49EF-AFF7-58FE22B58B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effective way-download free trial ver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D121-8031-479F-8942-8EBF0562D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12 Educational Software App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examine their skills in a risk free environment, get instant feedback, testing and re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and quality software applications have dramatically increased over the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in many designs, form and curricul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special features and when will it be more eff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FEA1-FC3F-48C2-957E-6FE7E0C753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0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computer to enhanc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3EA2-E15D-4825-9CC5-96328E381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 &amp;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ceive instant feedback on correct and incorrect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in features that once a skill is mastered, the computer moves the student to the next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9DDB-210C-4F88-B0AB-3F8E5CB7D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way to teach information through repetition and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ind it a fun way to lea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games create problem-solving to use higher order thinking skills to find solu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0F2A-80FC-4259-A50B-3133A7274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tutor or instru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7107-2D7F-4C29-BAD5-F095927562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change the conditions, cause things to happen and make decisions based on the criteria provided to simulate re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8FA5-70AC-48F8-A701-8429C8159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Example SimC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esign cities, communities, neighborhoods and businesses, including infrastructure, such as telephone lines, buildings and more.  As the cities grow in size and complexity, natural disasters and other realistic problems occur continuously requiring students to use all available city resources, including financial to keep the cities ru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D3DC-D086-4751-9ABE-49B152DB47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materials such as graphics, animation and video also make learning easier for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3CB615-4612-48BF-B65F-8FFBA6E2F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1AD993-D464-454C-8759-EAEBA00F0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85504E-E30C-4488-B98D-7F8F27F88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FF4A77-FBE3-44D7-B158-7BCAA8C578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06AE4-77EE-4CA8-813E-4297642E9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0912C-D7B2-436C-9EB4-BA1B622F4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409EB-81AA-451B-8A25-3A8369375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FBB57-F74D-4623-A0BB-6A0122DC4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B1910-6887-4386-A0F3-16BD5E629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ECD3-7C58-43EE-9B75-FB3888C30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EA682-C15C-4FA8-886C-BEA43A57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9F780D-4CD0-4A9B-AEA5-73CB50A85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9DE34-9D88-43E9-87F6-B84177B0A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600AD-7EED-4E0B-AC94-4BCEA4637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F679C-8709-41F2-9FE3-1DFE3AB81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12713-5334-4A88-A7C7-0AAA89F88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E1FE4-8456-4B7E-B7DA-06793BD83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E6F0A-EF95-4D02-9008-9ACF5D0C8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127DA0-FBEB-44D6-BE33-8D9E12515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313266-869B-4031-A2D8-B4B5A23E7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CD0112-8D1E-40E6-898B-56B9359AA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86A80-5B78-420E-8B8D-C005FDF25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935ACE-2E37-4B8A-9D96-B50FCAEB9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1B0F11-DDBA-4CD0-ACF1-D8537AC72A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5BB5-5131-4A8D-969D-16132C2B92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6F5D-67E4-4842-80E8-F22130D97C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DUC 784.1</a:t>
            </a:r>
            <a:endParaRPr b="0" lang="en-US" sz="4500" spc="-1" strike="noStrike">
              <a:solidFill>
                <a:srgbClr val="ffffff"/>
              </a:solidFill>
              <a:latin typeface="Arial"/>
            </a:endParaRPr>
          </a:p>
        </p:txBody>
      </p:sp>
      <p:sp>
        <p:nvSpPr>
          <p:cNvPr id="122" name="PlaceHolder 2"/>
          <p:cNvSpPr>
            <a:spLocks noGrp="1"/>
          </p:cNvSpPr>
          <p:nvPr>
            <p:ph type="subTitle"/>
          </p:nvPr>
        </p:nvSpPr>
        <p:spPr>
          <a:xfrm>
            <a:off x="533520" y="3504960"/>
            <a:ext cx="8229600" cy="2438280"/>
          </a:xfrm>
          <a:prstGeom prst="rect">
            <a:avLst/>
          </a:prstGeom>
          <a:noFill/>
          <a:ln w="0">
            <a:noFill/>
          </a:ln>
        </p:spPr>
        <p:txBody>
          <a:bodyPr anchor="t">
            <a:noAutofit/>
          </a:bodyPr>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ducational Software &amp; Tech Standards</a:t>
            </a:r>
            <a:endParaRPr b="0" lang="en-US" sz="25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10-9:10 p.m.</a:t>
            </a:r>
            <a:endParaRPr b="0" lang="en-US" sz="25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structor: Valrie Edward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ducational Software</a:t>
            </a:r>
            <a:endParaRPr b="0" lang="en-US" sz="3900" spc="-1" strike="noStrike">
              <a:solidFill>
                <a:srgbClr val="ffffff"/>
              </a:solidFill>
              <a:latin typeface="Arial"/>
            </a:endParaRPr>
          </a:p>
        </p:txBody>
      </p:sp>
      <p:sp>
        <p:nvSpPr>
          <p:cNvPr id="14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ity Software</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ows students to start with a blank canvas or templates and use their imaginations and ingenuity using the tools provided</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xamples: Microsoft Office, Hyperstudio, Inspiration, Kidspiration, Photoshop, Kid Pix, Storybook Weaver, Adobe Photo Element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itical Thinking Software</a:t>
            </a:r>
            <a:endParaRPr b="0" lang="en-US" sz="3900" spc="-1" strike="noStrike">
              <a:solidFill>
                <a:srgbClr val="ffffff"/>
              </a:solidFill>
              <a:latin typeface="Arial"/>
            </a:endParaRPr>
          </a:p>
        </p:txBody>
      </p:sp>
      <p:sp>
        <p:nvSpPr>
          <p:cNvPr id="142" name="PlaceHolder 2"/>
          <p:cNvSpPr>
            <a:spLocks noGrp="1"/>
          </p:cNvSpPr>
          <p:nvPr>
            <p:ph/>
          </p:nvPr>
        </p:nvSpPr>
        <p:spPr>
          <a:xfrm>
            <a:off x="380880" y="2057040"/>
            <a:ext cx="8305920" cy="48006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that stimulate students to use critical thinking skills in a variety of way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are often presented with a problem and a variety of ways to solve the proble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Carmen Sandiego Series, Super Solvers Mission T.H.I.N.K., GeoSafari Series, Zoombin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ly Learning Software</a:t>
            </a:r>
            <a:endParaRPr b="0" lang="en-US" sz="3900" spc="-1" strike="noStrike">
              <a:solidFill>
                <a:srgbClr val="ffffff"/>
              </a:solidFill>
              <a:latin typeface="Arial"/>
            </a:endParaRPr>
          </a:p>
        </p:txBody>
      </p:sp>
      <p:sp>
        <p:nvSpPr>
          <p:cNvPr id="14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provide students in grades K-3 with a development head start in reading, language arts, math, science and other curriculum area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Kidspiration, Millie’s Math House, Living Books Library, Sammy’s Science House, Jump Start Series, Reader Rabbit’s Rea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SL/Foreign Language</a:t>
            </a: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K-12 students with assistance in learning English and other languag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students to practice their skills in a non-threatening environm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English Express Deluxe, The Heartsoft BestSellers ESl Ver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Language Arts Software</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or all grades and supports student learning throughout the reading and writing proc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Reading Blaster, mPOwer, Cornerstone Reading, Orchard Reading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ath &amp; Science Software</a:t>
            </a:r>
            <a:endParaRPr b="0" lang="en-US" sz="3900" spc="-1" strike="noStrike">
              <a:solidFill>
                <a:srgbClr val="ffffff"/>
              </a:solidFill>
              <a:latin typeface="Arial"/>
            </a:endParaRPr>
          </a:p>
        </p:txBody>
      </p:sp>
      <p:sp>
        <p:nvSpPr>
          <p:cNvPr id="15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 applications help students master basic and complex mathematics for all leve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applications assist students in learning a wide variety of science concepts.</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ltimedia science applications can assist in mastering difficult or abstract concepts by providing a visual representat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ath &amp; Science Software</a:t>
            </a:r>
            <a:endParaRPr b="0" lang="en-US" sz="3900" spc="-1" strike="noStrike">
              <a:solidFill>
                <a:srgbClr val="ffffff"/>
              </a:solidFill>
              <a:latin typeface="Arial"/>
            </a:endParaRPr>
          </a:p>
        </p:txBody>
      </p:sp>
      <p:sp>
        <p:nvSpPr>
          <p:cNvPr id="15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 Math Advantage Series, Geometer Sketchpad, Math Blaster, Math Workshop Deluxe, Mighty Math, Tessallation Exploration, Mastering Algebra, Cornerstone Mat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Thinkin’ Science, The Ultimate Human Body, GeoSafari, Science Cou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ocial Studies Software</a:t>
            </a:r>
            <a:endParaRPr b="0" lang="en-US" sz="3900" spc="-1" strike="noStrike">
              <a:solidFill>
                <a:srgbClr val="ffffff"/>
              </a:solidFill>
              <a:latin typeface="Arial"/>
            </a:endParaRPr>
          </a:p>
        </p:txBody>
      </p:sp>
      <p:sp>
        <p:nvSpPr>
          <p:cNvPr id="15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higher-order thinking skills, provide reinforcement of facts and allow students to define their own pat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the World, Oregon Trail, Timeliner, American History S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oftware Evaluation</a:t>
            </a:r>
            <a:endParaRPr b="0" lang="en-US" sz="3900" spc="-1" strike="noStrike">
              <a:solidFill>
                <a:srgbClr val="ffffff"/>
              </a:solidFill>
              <a:latin typeface="Arial"/>
            </a:endParaRPr>
          </a:p>
        </p:txBody>
      </p:sp>
      <p:sp>
        <p:nvSpPr>
          <p:cNvPr id="156" name="PlaceHolder 2"/>
          <p:cNvSpPr>
            <a:spLocks noGrp="1"/>
          </p:cNvSpPr>
          <p:nvPr>
            <p:ph/>
          </p:nvPr>
        </p:nvSpPr>
        <p:spPr>
          <a:xfrm>
            <a:off x="0" y="1905120"/>
            <a:ext cx="9144000" cy="495288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for appropriate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accuracy of the content for its validity-most important area</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its relevance to the curriculum standards and goal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technical support and documentation the software offer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ability or academic level</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ell does it present itself and how well it works-user-friendli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student feedback</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K-12 Educational Software Applications</a:t>
            </a:r>
            <a:endParaRPr b="0" lang="en-US" sz="35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ducational software is used to support teaching and learning of subject related cont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multimedia applications enrich the learning process by providing individualized instruction and explo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Assisted Instruction</a:t>
            </a:r>
            <a:endParaRPr b="0" lang="en-US" sz="3900" spc="-1" strike="noStrike">
              <a:solidFill>
                <a:srgbClr val="ffffff"/>
              </a:solidFill>
              <a:latin typeface="Arial"/>
            </a:endParaRPr>
          </a:p>
        </p:txBody>
      </p:sp>
      <p:sp>
        <p:nvSpPr>
          <p:cNvPr id="12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designed to help teach facts, information and or skills associated with subject-related materia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names:</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BI-Computer-based instruction</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L-Computer-aided learning</a:t>
            </a:r>
            <a:endParaRPr b="0" lang="en-US" sz="25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rill &amp; Practice Software</a:t>
            </a:r>
            <a:endParaRPr b="0" lang="en-US" sz="3900" spc="-1" strike="noStrike">
              <a:solidFill>
                <a:srgbClr val="ffffff"/>
              </a:solidFill>
              <a:latin typeface="Arial"/>
            </a:endParaRPr>
          </a:p>
        </p:txBody>
      </p:sp>
      <p:sp>
        <p:nvSpPr>
          <p:cNvPr id="1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hat first supplies factual information and then through repetitive exercises allows students to continue work on the specific materials to remember the information/skill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for learning basic skills and remediatio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name:</a:t>
            </a:r>
            <a:endParaRPr b="0" lang="en-US" sz="28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kills-reinforcement softwar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ducational Games</a:t>
            </a:r>
            <a:endParaRPr b="0" lang="en-US" sz="3900" spc="-1" strike="noStrike">
              <a:solidFill>
                <a:srgbClr val="ffffff"/>
              </a:solidFill>
              <a:latin typeface="Arial"/>
            </a:endParaRPr>
          </a:p>
        </p:txBody>
      </p:sp>
      <p:sp>
        <p:nvSpPr>
          <p:cNvPr id="13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educational games available as CD-Roms or DVD-Roms and on the Web</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has a set of rules and students can compete against other students or the game itself.</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men Sandiego- students chase Carmen Sandiego around the world while learning geography, cultures, astronomy, music and his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utorials</a:t>
            </a: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ing program designed to help individuals learn how to use a product or concep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oftware products contain built-in tutorials to teach you how to use the soft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Educational Computer Simulations</a:t>
            </a:r>
            <a:endParaRPr b="0" lang="en-US" sz="35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model of real life that represents a physical or simulated proc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learners the opportunity to manipulate variable that affect the outcomes of the exper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imulations</a:t>
            </a:r>
            <a:endParaRPr b="0" lang="en-US" sz="39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City, Sim Theme Park &amp; Sim Coaster let students design, interact and provide more accurate explanations and examples of real lif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City is very popular in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oftware for Students with Disabilities</a:t>
            </a:r>
            <a:endParaRPr b="0" lang="en-US" sz="3500" spc="-1" strike="noStrike">
              <a:solidFill>
                <a:srgbClr val="ffffff"/>
              </a:solidFill>
              <a:latin typeface="Arial"/>
            </a:endParaRPr>
          </a:p>
        </p:txBody>
      </p:sp>
      <p:sp>
        <p:nvSpPr>
          <p:cNvPr id="13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software offers unique advantage to students with physical impairments and learning disabilitie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ly impaired students benefit from the audio capabilities of multimedia applications as well as the use of graphics and large font size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impaired students benefit from graphics, animation and video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software companies also offer closed captioning or sign langu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3:06:41Z</dcterms:created>
  <dc:creator>vedwards</dc:creator>
  <dc:description/>
  <dc:language>en-US</dc:language>
  <cp:lastModifiedBy>Valrie Edwards</cp:lastModifiedBy>
  <dcterms:modified xsi:type="dcterms:W3CDTF">2010-07-28T12:41:13Z</dcterms:modified>
  <cp:revision>25</cp:revision>
  <dc:subject/>
  <dc:title>EDUC 784.1 &amp; 784.2</dc:title>
</cp:coreProperties>
</file>